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3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950-B22C-4EB1-AE26-205F5489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B83E-144A-4F0B-8266-BAA1BDEB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2BF-4FE5-4594-9F37-758EDA88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BF2-188A-4B9B-B8E7-E48107FA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3F91E-1056-489C-8AAD-D6613D48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3341F-112A-44FC-9549-D57E81C1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0BDAE-A015-4422-893A-52B37638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2EBCF-0B8E-4356-A37C-C051C87C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B79C3-707C-4258-917A-380FB6F4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85188-BFD2-40DB-9582-5FC2078E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4EF63-85DF-4E81-8CA0-7CEF74CF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862-5271-4620-9F7A-80B5528F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B216A-8487-415E-A65C-6BEFE2ED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02C3D-295C-4EE4-859A-E845A347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2CA9F-D1A9-4DF3-BCC3-F9C9778D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50A16-A937-46ED-A148-143F8266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EB864-25D4-4BD5-861B-2AA9465A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1C6-00E0-4302-83FB-3A9B01EA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C8E-2EEB-4B2E-8DD5-0D1E1DA9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273-872F-4CCD-8E71-5382FEE7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B68-0F2A-43C1-BE2A-DF5C399C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C62-9675-4715-B559-08C7A8FB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7B2-3E42-4568-A515-65DC05DD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B054-F743-4903-A144-E71AD88F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F28C-A1EB-4ECB-A5F1-ED3A78E72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2727-AC18-4DB5-8735-801E921ED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hyperlink" Target="http://images.google.com/imgres?imgurl=http://www.marinebiodiversity.ca/BayOfFundy/pix/anemoneCnidarians.gif&amp;imgrefurl=http://www.marinebiodiversity.ca/BayOfFundy/links.html&amp;usg=__kVDZ0TVNWfq-C9o5zwUOXW-81s8=&amp;h=214&amp;w=200&amp;sz=29&amp;hl=en&amp;start=19&amp;um=1&amp;tbnid=tvgvcBnSXrTf7M:&amp;tbnh=106&amp;tbnw=99&amp;prev=/images%3Fq%3DCnidarians%26hl%3Den%26safe%3Dactive%26sa%3DN%26um%3D1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s.google.com/imgres?imgurl=http://www.tropicarium.se/images/koraller.jpg&amp;imgrefurl=http://www.tropicarium.se/index.php%3Fid%3D91%26lang%3Den&amp;usg=__hkHJv48dq82oss5EDXN1ghDmLz4=&amp;h=400&amp;w=396&amp;sz=89&amp;hl=en&amp;start=39&amp;um=1&amp;tbnid=oBz6O_wG3U16bM:&amp;tbnh=124&amp;tbnw=123&amp;prev=/images%3Fq%3DCnidarians%26ndsp%3D20%26hl%3Den%26safe%3Dactive%26sa%3DN%26start%3D20%26um%3D1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mages.google.com/imgres?imgurl=http://genomeportal.jgi-psf.org/Nemve1/Nematostellapolyp.jpg&amp;imgrefurl=http://genomeportal.jgi-psf.org/Nemve1/Nemve1.home.html&amp;usg=__J1_FNsddM-FwI4bMTOPyDTrGE1Y=&amp;h=406&amp;w=300&amp;sz=102&amp;hl=en&amp;start=47&amp;um=1&amp;tbnid=vznmvxLS33CVJM:&amp;tbnh=124&amp;tbnw=92&amp;prev=/images%3Fq%3DCnidarians%26ndsp%3D20%26hl%3Den%26safe%3Dactive%26sa%3DN%26start%3D40%26um%3D1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images.google.com/imgres?imgurl=http://z.about.com/d/animals/1/G/T/Z/cnidarians2.jpg&amp;imgrefurl=http://animals.about.com/cs/cnidaria/g/cnidaria.htm&amp;usg=__cZhgU6Z2jvVbBBNtK8xF5_WNNwo=&amp;h=160&amp;w=160&amp;sz=45&amp;hl=en&amp;start=53&amp;um=1&amp;tbnid=wN_AS3gACzpyrM:&amp;tbnh=98&amp;tbnw=98&amp;prev=/images%3Fq%3DCnidarians%26ndsp%3D20%26hl%3Den%26safe%3Dactive%26sa%3DN%26start%3D40%26um%3D1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dogbreedinfo.com/images14/TapewormImg_1384.jpg&amp;imgrefurl=http://www.dogbreedinfo.com/wormstapewormphotos.htm&amp;usg=__WAbBbWNPzV3ecrzkovpAF65M8x4=&amp;h=300&amp;w=400&amp;sz=23&amp;hl=en&amp;start=1&amp;um=1&amp;tbnid=yZe_piYWJ0Z2YM:&amp;tbnh=93&amp;tbnw=124&amp;prev=/images%3Fq%3Dtapeworm%26hl%3Den%26safe%3Dactive%26um%3D1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astrographics.com/GalleryPrints/Display/GP2104.jpg&amp;imgrefurl=http://www.astrographics.com/cgi-bin/ase/ase.cgi%3Faffiliate%3D%26mode%3Ddisplay%26gallery%3D3%26type%3D%26color%3D%26keywords%3D%26page%3D108&amp;usg=__tanNcRX19Qc8OI8KcM1HBovaJbU=&amp;h=360&amp;w=360&amp;sz=16&amp;hl=en&amp;start=6&amp;um=1&amp;tbnid=XBJUhLO2c1_JfM:&amp;tbnh=121&amp;tbnw=121&amp;prev=/images%3Fq%3Dtapeworm%26hl%3Den%26safe%3Dactive%26um%3D1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/imgres?imgurl=http://locksparkfarm.files.wordpress.com/2007/12/fluke.jpg&amp;imgrefurl=http://locksparkfarm.wordpress.com/2007/12/03/its-a-fluke/&amp;usg=__AS9T8FIuxOthjqlvZe9zploZ-CY=&amp;h=319&amp;w=474&amp;sz=24&amp;hl=en&amp;start=19&amp;um=1&amp;tbnid=okiUZRMy4dvFxM:&amp;tbnh=87&amp;tbnw=129&amp;prev=/images%3Fq%3Dfluke%26hl%3Den%26safe%3Dactive%26um%3D1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www.americanaquariumproducts.com/images/graphics/planaria.jpg&amp;imgrefurl=http://www.fish-as-pets.com/2007/11/planaria-detritus-internet-answers.html&amp;usg=__jJ_PrB7TazD0xQ-UUqPh3z32CCg=&amp;h=375&amp;w=500&amp;sz=37&amp;hl=en&amp;start=1&amp;um=1&amp;tbnid=u17MaSt6Xu8DoM:&amp;tbnh=98&amp;tbnw=130&amp;prev=/images%3Fq%3Dplanaria%26hl%3Den%26safe%3Dactive%26um%3D1" TargetMode="External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greatlakesbcrescue.org/HealthNTraining/heartworms.JPG&amp;imgrefurl=http://www.greatlakesbcrescue.org/HealthNTraining/Heartworm.htm&amp;usg=__p1NgZeIKaZV85KXLh7X0HFaFP7Y=&amp;h=200&amp;w=280&amp;sz=19&amp;hl=en&amp;start=3&amp;um=1&amp;tbnid=HnMDryFuKrgXCM:&amp;tbnh=81&amp;tbnw=114&amp;prev=/images%3Fq%3Dheartworms%26hl%3Den%26safe%3Dactive%26um%3D1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imal Kingdom 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thropo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ugh outer covering called exoskelet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inted appendages that are used for walking, sensing, feeding and ma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out of every 3 animals on earth are arthrop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iders, crabs, lobster, shrimp, crayfish, centipedes, millipedes and ins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895480" y="1974960"/>
            <a:ext cx="381024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1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hinoderm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d bumpy, spiny endoskeleton covered with a thin epiderm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 with tiny, suction-cup like tube fe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a cucumbers, sea sta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991040" y="281952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3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lcome to the Vertebrates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sh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totherm – temperature depends on an external heat sour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chambered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eath through gil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34120" y="320040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1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mphibi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ctothe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 chambered hea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n, moist sk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ults mainly live on la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go through metamorph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gs, toads, salaman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4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pti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tothe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y, scaly sk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wed t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have a 3 chambered he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kes, lizards, turtles, crocodiles and alliga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991040" y="281952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6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class with feath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les on feet, clawed t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otherm – maintain constant body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91040" y="281952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2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mm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othe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have ha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e milk to feed yo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chambered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991040" y="281952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7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1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itation (MLA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ponges: Porifera. United Learning. 2002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scovery Education. 7 May 2009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http://streaming.discoveryeducation.com/&gt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itation (MLA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hylum Arthropoda: Arthropods, the Joint-Legged Animals. United Learning. 2002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scovery Education. 8 May 2009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http://streaming.discoveryeducation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itation (MLA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a Stars: Unique Physical Structures and Propulsion System, the Water Vascular System . Aims Multimedia. 1993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scovery Education. 8 May 2009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http://streaming.discoveryeducation.com/&gt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itation (MLA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mphibians. 100% Educational Videos. 2002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scovery Education. 8 May 2009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http://streaming.discoveryeducation.com/&gt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Makes It An Animal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karyotic – has a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cell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alized cells that form tissue and org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cell w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have a way to move that helps them reproduce, obtain food and protect themsel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Anima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rtebrates – no backb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tebrates - backb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on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ssue level of organiz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org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ter fee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91040" y="281952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nidari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d for the stinging cells that they use to capture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llyfish, coral, sea anemone and hyd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1695240" cy="1627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705720" y="4267080"/>
            <a:ext cx="1790640" cy="1819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238880" y="1295280"/>
            <a:ext cx="943200" cy="100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38080" y="5029200"/>
            <a:ext cx="1171800" cy="1181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952880" y="4572000"/>
            <a:ext cx="1158840" cy="1562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43400" y="1600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atwor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at, solid bod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body cav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opening, food enters and le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sitic tapew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25909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29400" y="1066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05720" y="3505320"/>
            <a:ext cx="1676160" cy="1130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86200" y="4724280"/>
            <a:ext cx="198108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undwor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be-like digestive sys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-living some are parasit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worms in dogs, hook worms and pin wo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419720"/>
            <a:ext cx="2286000" cy="1623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038480" y="4267080"/>
            <a:ext cx="1600200" cy="1203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095880" y="5105520"/>
            <a:ext cx="13129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llus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ugs, snails, clams, squids and octopu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estive tract with two open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ular foot for mov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tle that surrounds the internal org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838160" cy="1187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943600" y="4495680"/>
            <a:ext cx="186696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87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8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gmented Wor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ylindrical b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estive tract with two openin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thworms, leech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2448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5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6" dur="indefinite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5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5:51:59Z</dcterms:created>
  <dc:creator>Clear Creek ISD</dc:creator>
  <dc:description/>
  <dc:language>en-US</dc:language>
  <cp:lastModifiedBy>Clear Creek ISD</cp:lastModifiedBy>
  <dcterms:modified xsi:type="dcterms:W3CDTF">2009-05-08T13:51:33Z</dcterms:modified>
  <cp:revision>10</cp:revision>
  <dc:subject/>
  <dc:title>Animal Kingdom Overview</dc:title>
</cp:coreProperties>
</file>